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applause.wav" ContentType="audio/x-wav"/>
  <Override PartName="/ppt/media/image16.png" ContentType="image/png"/>
  <Override PartName="/ppt/media/drumroll.wav" ContentType="audio/x-wav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7EF5-2225-4BF4-A6C8-3A09B69A8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1C2-9742-4209-93D1-469C31366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1DD-76A4-4ED2-9AF7-61A1DAEB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99F-5C73-43E9-8441-C8209F2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B4B-CA89-4923-BB0E-61D7C7C7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558-C2DC-4ED8-8F6E-58AEEFB1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F26D-C09A-41B1-ABFC-E92DECAE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8D3C-89C5-4B1D-BEFD-DADA49B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037-3405-4DAC-BA26-2127ABE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0239-AFAA-444C-8D28-BE6643A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782-638B-4F63-AB93-1CE8BF2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AA1-0B88-4EC2-8716-39AB8BE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6D2-55D8-4A18-A66A-233B0F17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1A5-314C-4C97-8517-B3EDE8A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81B-D768-4114-995B-8B98874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B043-9E8A-419F-967D-C02BBE4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822E-7738-4AA5-9FFB-2D0B64C4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1D6D-5CC2-46C6-A5B8-4228736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501E-E7FA-49B8-89CF-6B9532EF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C293-A498-4008-BA63-320DFDE7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61E3-94E4-4BAA-AE41-4DEB2D2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A48A-3A12-43E4-85FD-26D4728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FA4A-CE15-4732-91CA-EE7274B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CBA0-B3B4-4008-971B-5472FFE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58F-D329-44D7-8DE2-B201BCA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FB56-7D5C-49B7-8005-F6296060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AA7F-4DD1-4488-8A9B-72CFA38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B8BD-F6B9-478B-A50D-2899A10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1EA8-17B9-4FEC-86DE-5B04A0E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E9DB-D649-48E0-8506-C2B89925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78E4-DA0B-4DA7-AA9F-1C2A402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488C-8815-4CC1-86D4-8AF1865F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0212-6E8F-4718-9C22-74E1C772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E5F3-2282-4E5E-8829-74FED0C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F9A3-4193-4E11-AE77-483AD6A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8AD-ECF0-4A66-B903-220BED3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A841-BEB8-48D0-9F1F-442EE41B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8B04-DCEA-478E-9A86-386D63D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56B8-6E9F-4510-B7C5-9A60404E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E0C3-C4FA-4D78-B5AB-C167330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F6A9-6254-4714-8BA2-96B6A53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29AC-40F2-48D6-883D-D35814A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5DB4-D6A1-467E-8B2A-CB52176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7B4B-08C9-4BA9-BD73-088C8110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EA6C-EBED-4885-BC28-A70D3BF8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0BD-EE18-4FD7-9F1B-A9BD8DB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9CA-08C2-49ED-BD9D-47DFCEE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241-604F-4613-8A96-D4C40A93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A2C-92E4-4140-BE45-25AFB92C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DA9-9EA7-4031-B0BE-4D2E49B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7420-25F2-43E8-B0B9-0D80639F9A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BAF-45DF-4F8E-BDED-7A08321E2AC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7B9-6489-47AD-BA30-8E17CBB1056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B1B-7254-4CB1-A5BB-DBE9C6CA3E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a - 17,098,242 sq k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- 139,390,2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age- 38.5 years ol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ployment rate- 8.4 and grow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below poverty line- 15.8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Content Placeholder 4" descr="rs-map.gif"/>
          <p:cNvPicPr/>
          <p:nvPr/>
        </p:nvPicPr>
        <p:blipFill>
          <a:blip r:embed="rId1"/>
          <a:stretch/>
        </p:blipFill>
        <p:spPr>
          <a:xfrm>
            <a:off x="4191120" y="2438280"/>
            <a:ext cx="4647960" cy="32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Russia economy has been going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is frozen are the ports so transportation is har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2:08:27Z</dcterms:modified>
  <cp:revision>47</cp:revision>
  <dc:subject/>
  <dc:title>Economy</dc:title>
</cp:coreProperties>
</file>